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079-0A04-418A-9999-FBC92DE7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98E-BE58-4EC9-A192-05A9D8F6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3ACC9-97A1-41DD-AF48-886913B5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BFE02-25F4-4F54-89F5-4ED77A33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638CB-D686-4CDA-8DF1-9A510B69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3D3D1-5E9E-49FF-B55C-2397C60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C3085-B866-472F-A3F4-8D8B0632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94A02-1AA5-40E3-8EB4-D8E6FD9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90A50-0038-4387-A462-BDD0E2A4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2731F-6533-462C-B8B9-8C9180E3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EF2A0-DA3D-45A7-8FD3-BCE8023C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C8E4E-9680-482B-BA33-93152956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75F-5D00-446F-A95D-F2187FBC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9550D-09F1-4E6C-B568-8C543C0F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53BBA-22C6-4ACC-A3A5-B8F16E09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0B3FB-D6D2-45BD-8C27-6A773200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7CB2B-D9C0-40B7-9615-36DE795F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1ACCE-5A29-4AE0-9854-8A282D02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D55D2-EBFA-4908-B476-B6B417D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49889-13D3-42B3-B849-AC383956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0C364-6162-41B9-8EFD-778DB28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67D14-7E30-427C-A305-679A059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D75FE-C6FD-4D9A-A6B9-105F469B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6EF-10AD-4774-B517-CAEF143B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69504-4AE1-49F2-957A-60A644EE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E8A8E-A107-4EAB-8EBE-9C0F84CC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82F9D-7936-4040-9352-7E816945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C5BDD-DCAC-4417-B1EE-7CD7FB1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B1C32-6B16-4974-B6F6-150AFCC4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7D888-75F9-4CF8-83EB-2E27BC51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D639B-1C1B-4959-8469-90B7D131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2FBBF-9F5E-43BF-B4E2-51BC5332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5747C-B128-46B0-BCE5-B34E4428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266C4-C86B-4816-A94A-C7F70A64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B6BD-60D8-430A-8FAF-95814FD4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7D535-393B-49DD-B9FE-D44A691B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34BAB-2DEF-494D-927D-F1BA4ED3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2738F-43E3-4392-A493-9625777D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AC483-FBA3-492B-B433-EDBE7EC3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91EC6-4488-46DC-9C9C-8F71ABF8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0BF78-A9D7-4208-B474-7010F02A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CC51E-1F75-4C5B-9940-9D4BE3F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E6D14-FD0E-46B9-8A11-6805FFD2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3F696-148F-4B4B-A3B8-179CC0F0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0F0A6-6BCD-43FA-AC55-69FCC12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8C70-AEC5-4AF9-91B2-BBEE8506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6735A-926C-4233-871C-C377909F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57ADE-523A-465E-A423-9330048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B654F-5E87-4AA6-A65B-DC0D797E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23313-D4CD-42B0-B562-0B76E008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F5B7F-208D-4647-8EC2-E478E7A0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D370-8400-408F-B66B-1CDB4821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6F1C-BB9D-46C9-954D-9D086D38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3569-11B1-49D6-8CD0-0060D454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0791-994C-4D8C-A76F-56CE3CCD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55F5-19DF-4E29-B58A-6C1F21C7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543-56CC-463E-8CC5-A30CCD10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51D1-972F-436E-AFC6-D8F1DEC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4196-4C33-459B-960E-20520BE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8474-9C68-4D0C-8E3A-2A4D0794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A8C-DDE6-4AC3-A47B-10466EE3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3E95-1E92-47A9-BE81-7634B7AE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08A5-1EE5-46E7-B642-12741519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ACE4A-3142-431E-86ED-905697F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4B97-7452-4FE7-81DD-37950F3B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D297-12E3-4440-AAA5-51D6A74D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C0E9-EB64-40D6-94AD-5EBA5A96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E0B-0EB9-4616-94B4-F43D9C17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7508-6FCE-4FCC-896C-38EA0F92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F2FC6-5A86-4D01-B6DF-8B57E77B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01F5-29BB-4DD6-BF16-C591883B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373B-F728-4250-BEFD-53E7A4F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8950-01BF-418F-BDAD-42CC1B5B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F49C-223C-4F5F-A971-781F7801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1274-5245-4647-A7E7-0147F843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7CBE-E8F2-418E-B6B0-BA555CD7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D068-BCD5-4BD8-A682-0F46375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A2AD-6649-4593-BD6E-99C527C6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D27-9723-4496-B109-E06E5BC1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11020-F3DE-45A4-8303-35DD6208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E881-7A8F-495D-B61D-1B6C3F8A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DA0A-4EC6-4C3B-9584-2AEDD569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328A-4523-41F6-9C1C-4A5CCD1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7F20-B7EE-4638-BA3A-5D5D235C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E28A-22A3-4C2E-B4AD-17FC491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527E-F094-40EC-8918-F017F47F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13231-BC74-4160-9EB0-FD097CA1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0D3CF-9B28-4E94-AF6D-E2DEBAA4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DE24-5894-4617-9F7D-5D7E0C11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AD5-4221-4E2A-9B83-83AD66BA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61DDE-6BDD-412F-9978-A70C93EA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AE2A4-81D2-429F-8FB0-6EA89FC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5F331-D435-4410-8A78-B0AC5A8C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FA26D-193B-4B67-A79F-10B8FAD1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995CD-BAF9-4FAB-8CAE-E748372B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1E922-35F0-4726-B309-218CEFF5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2D13C-FB03-4BA2-B863-8EF3A420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B66C-B540-493F-B113-C52757F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F5C7-BE9F-4692-88FE-5F891A3A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F5DF-4B20-4644-9746-97726569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50B-E0CA-49D1-9175-9DBED904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2E605-B427-4E65-ACBA-08A89E44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59FB0-77DB-41E1-98F9-055A7130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B3F33-D265-4C1A-8C19-B0E2052F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87CC7-C6E5-4BDC-87C0-0CBEC157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79243-464A-4028-896E-17F152F2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992F-DC3B-4325-B8D4-4C62614D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4BE54-3C0E-432F-AAF0-3DCCFBDB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7EDA5-713B-4CDF-9B92-8E89C0D7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690CA-8417-4A01-80EE-C285AC4B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A7598-FCD1-4591-B3AB-C9439657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330-9E14-411A-B705-CDAF302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15D0F-ED1F-4034-A5A1-BF84FEDD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2376-586E-4283-9C60-3524B1AA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679AD-03CA-4973-8EE8-51D01FDC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BE9D9-6267-42F3-A4E9-5FEF086B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90C40-6AA0-4318-AA4C-D8844785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2E99D-3FCF-49C4-B2D2-B10F7B93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B54CE-166F-43C1-AB89-25CC8BF8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2A49F-44AE-4CEA-AC60-546A93BD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70C2-45EC-41ED-8AE4-C1C57E5A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4C6C9-E186-47B1-A26B-E90BAFE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4A1-26D2-4FF4-AA7B-D89B883C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7FE9-D56C-45B3-9148-9CB5CD33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7679-825C-403E-9F2A-6B8E352C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BA9F4-E77C-4E42-83B8-7FAB4F75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F39E-5EDE-4148-9EEB-D34CE6CB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2404D-B4DA-45FC-A82C-3BE2C3EF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DE6F2-989B-4333-9603-6C8FE0A8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113BB-1865-485A-A6F5-C1E2C044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6D008-6C0E-4101-933C-4B446A22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D2C9D-D450-4F9F-BB3F-97EF84E0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61943-82E4-46BF-B23B-59723D11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60B-11CA-43A3-BC4B-8C6F18EF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9535F-61D7-43D8-AC0A-676E995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A3E9E-A282-48F9-8122-1D9330C7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3F242-B8FD-4DA2-ADEC-3FA5FEC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E206E-C1E8-4E57-96B5-E3BF9008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B4C0A-D0DF-4487-8F5C-21A6CBEC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A21EF-915B-47ED-A599-2F8178B8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FDA71-53B6-4684-BDC0-49FF6D09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F8012-7D2D-4092-A669-B3C1E323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7AB0E-269C-462C-B7F7-72BE30AE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D92B5-64BF-47D3-85DD-678E412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5653-38B7-4B82-84E3-19EB66C688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E24E-F646-4A4B-9DF9-0D84AF0BA7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D40-D3D8-439A-BC86-F055A4B4BC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DB6D-91A1-4BF6-A4F0-7ABD4F5FCA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0977-1E9C-4056-B807-DA75BE5318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EA8E-8B2A-4DCC-9E67-088352135C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F657-4D89-4553-B376-4841EA8476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4209-4397-473D-8340-28B47A076F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1515-838A-414C-B438-43795E5DC4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4394-683C-4A35-809F-C8CE31228D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9273-7D05-4D7E-8FB3-E730C203F7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D9FF-9045-46EF-A5A8-F45DB18707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1 Do sveta bôľu, žalost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veta bôľu, žal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lúdenia bez ci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poslal z veľk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hriešnym Spasite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je nádej jedi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a k cieľu spas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ou láskou zjave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rahom mene Ježi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ykupiteľ, Boh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liek na rany sve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jeho krvi spásu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zjaviť láska sv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je nádej jedi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a k cieľu spas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ou láskou zjave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rahom mene Ježi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všetka bolesť stíchne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večné zdravie žiar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navždy zotrie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aše slzy z tvá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je nádej jedi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a k cieľu spas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ou láskou zjave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rahom mene Ježi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5T08:47:36Z</dcterms:modified>
  <cp:revision>32</cp:revision>
  <dc:subject/>
  <dc:title>Je veľký náš Pán, on slávy je Kráľ Nech do všetkých strán  spev vrúcnych znie chvál.</dc:title>
</cp:coreProperties>
</file>